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1"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7"/>
          </p:nvPr>
        </p:nvSpPr>
        <p:spPr>
          <a:xfrm>
            <a:off x="396072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3" name="PlaceHolder 3"/>
          <p:cNvSpPr>
            <a:spLocks noGrp="1"/>
          </p:cNvSpPr>
          <p:nvPr>
            <p:ph type="sldImg"/>
          </p:nvPr>
        </p:nvSpPr>
        <p:spPr>
          <a:xfrm>
            <a:off x="1176120" y="696960"/>
            <a:ext cx="4638600" cy="3479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524"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5" name="PlaceHolder 5"/>
          <p:cNvSpPr>
            <a:spLocks noGrp="1"/>
          </p:cNvSpPr>
          <p:nvPr>
            <p:ph type="ftr" idx="28"/>
          </p:nvPr>
        </p:nvSpPr>
        <p:spPr>
          <a:xfrm>
            <a:off x="0" y="8816760"/>
            <a:ext cx="302904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526" name="PlaceHolder 6"/>
          <p:cNvSpPr>
            <a:spLocks noGrp="1"/>
          </p:cNvSpPr>
          <p:nvPr>
            <p:ph type="sldNum" idx="29"/>
          </p:nvPr>
        </p:nvSpPr>
        <p:spPr>
          <a:xfrm>
            <a:off x="3960720" y="8816760"/>
            <a:ext cx="30290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5363-C90F-4F88-B34F-B09AFD051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6"/>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12"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E104-A4B6-4C0A-A800-3DB8E40A2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76480" y="696960"/>
            <a:ext cx="4638600" cy="3479760"/>
          </a:xfrm>
          <a:prstGeom prst="rect">
            <a:avLst/>
          </a:prstGeom>
          <a:ln w="0">
            <a:noFill/>
          </a:ln>
        </p:spPr>
      </p:sp>
      <p:sp>
        <p:nvSpPr>
          <p:cNvPr id="71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76480" y="696960"/>
            <a:ext cx="4638600" cy="3479760"/>
          </a:xfrm>
          <a:prstGeom prst="rect">
            <a:avLst/>
          </a:prstGeom>
          <a:ln w="0">
            <a:noFill/>
          </a:ln>
        </p:spPr>
      </p:sp>
      <p:sp>
        <p:nvSpPr>
          <p:cNvPr id="74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E9A7-8F67-4A55-BA83-52961D8BE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76480" y="696960"/>
            <a:ext cx="4638600" cy="3479760"/>
          </a:xfrm>
          <a:prstGeom prst="rect">
            <a:avLst/>
          </a:prstGeom>
          <a:ln w="0">
            <a:noFill/>
          </a:ln>
        </p:spPr>
      </p:sp>
      <p:sp>
        <p:nvSpPr>
          <p:cNvPr id="75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DCC7-1786-4877-ADED-F2F88CF02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6"/>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14E3-6553-4BC3-B520-B3AE829BC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76480" y="696960"/>
            <a:ext cx="4638600" cy="3479760"/>
          </a:xfrm>
          <a:prstGeom prst="rect">
            <a:avLst/>
          </a:prstGeom>
          <a:ln w="0">
            <a:noFill/>
          </a:ln>
        </p:spPr>
      </p:sp>
      <p:sp>
        <p:nvSpPr>
          <p:cNvPr id="758"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bout Objects: Usually operating or current expendi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current operating? Or some sub-set excluding items like transportation, foo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venues, just state and local, or from all sources, local, state and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ovement to class size, numbers and quality of teachers, actual class size (i.e., not pupil-staff rat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bout the Group: Students, taxpayers, teachers, par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payer equity analyzed within a public finance, tax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equity for students --Equal spending plus adjustments for nee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ing not-linked to local “wealth,” i.e., property value per pupil, i.e., fis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76480" y="696960"/>
            <a:ext cx="4638600" cy="3479760"/>
          </a:xfrm>
          <a:prstGeom prst="rect">
            <a:avLst/>
          </a:prstGeom>
          <a:ln w="0">
            <a:noFill/>
          </a:ln>
        </p:spPr>
      </p:sp>
      <p:sp>
        <p:nvSpPr>
          <p:cNvPr id="76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6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B67C-55CA-4BC2-8ABD-15DE8ACE7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76480" y="696960"/>
            <a:ext cx="4638600" cy="3479760"/>
          </a:xfrm>
          <a:prstGeom prst="rect">
            <a:avLst/>
          </a:prstGeom>
          <a:ln w="0">
            <a:noFill/>
          </a:ln>
        </p:spPr>
      </p:sp>
      <p:sp>
        <p:nvSpPr>
          <p:cNvPr id="76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6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73B8-295E-409A-ADEC-B1A90582A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76480" y="696960"/>
            <a:ext cx="4638600" cy="3479760"/>
          </a:xfrm>
          <a:prstGeom prst="rect">
            <a:avLst/>
          </a:prstGeom>
          <a:ln w="0">
            <a:noFill/>
          </a:ln>
        </p:spPr>
      </p:sp>
      <p:sp>
        <p:nvSpPr>
          <p:cNvPr id="76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436B-49DF-433E-BCC4-996B23023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76480" y="696960"/>
            <a:ext cx="4638600" cy="3479760"/>
          </a:xfrm>
          <a:prstGeom prst="rect">
            <a:avLst/>
          </a:prstGeom>
          <a:ln w="0">
            <a:noFill/>
          </a:ln>
        </p:spPr>
      </p:sp>
      <p:sp>
        <p:nvSpPr>
          <p:cNvPr id="77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7E28-AEDC-4C9A-B92C-5CC93ED3D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76480" y="696960"/>
            <a:ext cx="4638600" cy="3479760"/>
          </a:xfrm>
          <a:prstGeom prst="rect">
            <a:avLst/>
          </a:prstGeom>
          <a:ln w="0">
            <a:noFill/>
          </a:ln>
        </p:spPr>
      </p:sp>
      <p:sp>
        <p:nvSpPr>
          <p:cNvPr id="77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C7A3-317F-487C-8EE2-10CC27FC6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76480" y="696960"/>
            <a:ext cx="4638600" cy="3479760"/>
          </a:xfrm>
          <a:prstGeom prst="rect">
            <a:avLst/>
          </a:prstGeom>
          <a:ln w="0">
            <a:noFill/>
          </a:ln>
        </p:spPr>
      </p:sp>
      <p:sp>
        <p:nvSpPr>
          <p:cNvPr id="78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8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C485-7C77-4213-86A1-CEBC93948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76480" y="696960"/>
            <a:ext cx="4638600" cy="3479760"/>
          </a:xfrm>
          <a:prstGeom prst="rect">
            <a:avLst/>
          </a:prstGeom>
          <a:ln w="0">
            <a:noFill/>
          </a:ln>
        </p:spPr>
      </p:sp>
      <p:sp>
        <p:nvSpPr>
          <p:cNvPr id="78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8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8EE2-BF80-4A24-B168-7743BCA40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76480" y="696960"/>
            <a:ext cx="4638600" cy="3479760"/>
          </a:xfrm>
          <a:prstGeom prst="rect">
            <a:avLst/>
          </a:prstGeom>
          <a:ln w="0">
            <a:noFill/>
          </a:ln>
        </p:spPr>
      </p:sp>
      <p:sp>
        <p:nvSpPr>
          <p:cNvPr id="71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1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B433-7ABB-4DAC-B15A-5486442B1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76480" y="696960"/>
            <a:ext cx="4638600" cy="3479760"/>
          </a:xfrm>
          <a:prstGeom prst="rect">
            <a:avLst/>
          </a:prstGeom>
          <a:ln w="0">
            <a:noFill/>
          </a:ln>
        </p:spPr>
      </p:sp>
      <p:sp>
        <p:nvSpPr>
          <p:cNvPr id="78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B6F9-314B-41F9-93A0-C4AF11601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76480" y="696960"/>
            <a:ext cx="4638600" cy="3479760"/>
          </a:xfrm>
          <a:prstGeom prst="rect">
            <a:avLst/>
          </a:prstGeom>
          <a:ln w="0">
            <a:noFill/>
          </a:ln>
        </p:spPr>
      </p:sp>
      <p:sp>
        <p:nvSpPr>
          <p:cNvPr id="79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00ED-4C7D-43D7-B3B0-EA296416E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76480" y="696960"/>
            <a:ext cx="4638600" cy="3479760"/>
          </a:xfrm>
          <a:prstGeom prst="rect">
            <a:avLst/>
          </a:prstGeom>
          <a:ln w="0">
            <a:noFill/>
          </a:ln>
        </p:spPr>
      </p:sp>
      <p:sp>
        <p:nvSpPr>
          <p:cNvPr id="79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71FE-5A50-496E-AD38-AD004C2A2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76480" y="696960"/>
            <a:ext cx="4638600" cy="3479760"/>
          </a:xfrm>
          <a:prstGeom prst="rect">
            <a:avLst/>
          </a:prstGeom>
          <a:ln w="0">
            <a:noFill/>
          </a:ln>
        </p:spPr>
      </p:sp>
      <p:sp>
        <p:nvSpPr>
          <p:cNvPr id="80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0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CC27-B9A9-4C5A-B501-41614322B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76480" y="696960"/>
            <a:ext cx="4638600" cy="3479760"/>
          </a:xfrm>
          <a:prstGeom prst="rect">
            <a:avLst/>
          </a:prstGeom>
          <a:ln w="0">
            <a:noFill/>
          </a:ln>
        </p:spPr>
      </p:sp>
      <p:sp>
        <p:nvSpPr>
          <p:cNvPr id="80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0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78C1-B66A-48EC-85DA-6F82D529F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76480" y="696960"/>
            <a:ext cx="4638600" cy="3479760"/>
          </a:xfrm>
          <a:prstGeom prst="rect">
            <a:avLst/>
          </a:prstGeom>
          <a:ln w="0">
            <a:noFill/>
          </a:ln>
        </p:spPr>
      </p:sp>
      <p:sp>
        <p:nvSpPr>
          <p:cNvPr id="80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DD1F-CD73-45E5-93A3-0C6A3D6A2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76480" y="696960"/>
            <a:ext cx="4638600" cy="3479760"/>
          </a:xfrm>
          <a:prstGeom prst="rect">
            <a:avLst/>
          </a:prstGeom>
          <a:ln w="0">
            <a:noFill/>
          </a:ln>
        </p:spPr>
      </p:sp>
      <p:sp>
        <p:nvSpPr>
          <p:cNvPr id="81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A7E8-0285-4C74-A856-2A9A53564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76480" y="696960"/>
            <a:ext cx="4638600" cy="3479760"/>
          </a:xfrm>
          <a:prstGeom prst="rect">
            <a:avLst/>
          </a:prstGeom>
          <a:ln w="0">
            <a:noFill/>
          </a:ln>
        </p:spPr>
      </p:sp>
      <p:sp>
        <p:nvSpPr>
          <p:cNvPr id="81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E0DA-21E5-4AD8-AC54-57DD37BA0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76480" y="696960"/>
            <a:ext cx="4638600" cy="3479760"/>
          </a:xfrm>
          <a:prstGeom prst="rect">
            <a:avLst/>
          </a:prstGeom>
          <a:ln w="0">
            <a:noFill/>
          </a:ln>
        </p:spPr>
      </p:sp>
      <p:sp>
        <p:nvSpPr>
          <p:cNvPr id="82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2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6FB5-16EC-43B2-AE8D-EE03FF587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76480" y="696960"/>
            <a:ext cx="4638600" cy="3479760"/>
          </a:xfrm>
          <a:prstGeom prst="rect">
            <a:avLst/>
          </a:prstGeom>
          <a:ln w="0">
            <a:noFill/>
          </a:ln>
        </p:spPr>
      </p:sp>
      <p:sp>
        <p:nvSpPr>
          <p:cNvPr id="82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2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87AA-BC1C-4DD9-8C84-FAA7CE3F0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76480" y="696960"/>
            <a:ext cx="4638600" cy="3479760"/>
          </a:xfrm>
          <a:prstGeom prst="rect">
            <a:avLst/>
          </a:prstGeom>
          <a:ln w="0">
            <a:noFill/>
          </a:ln>
        </p:spPr>
      </p:sp>
      <p:sp>
        <p:nvSpPr>
          <p:cNvPr id="72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2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1CD0-87DC-4D6A-A9BC-9F3517863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76480" y="696960"/>
            <a:ext cx="4638600" cy="3479760"/>
          </a:xfrm>
          <a:prstGeom prst="rect">
            <a:avLst/>
          </a:prstGeom>
          <a:ln w="0">
            <a:noFill/>
          </a:ln>
        </p:spPr>
      </p:sp>
      <p:sp>
        <p:nvSpPr>
          <p:cNvPr id="82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2C18-9565-4958-8E9E-638AD9465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76480" y="696960"/>
            <a:ext cx="4638600" cy="3479760"/>
          </a:xfrm>
          <a:prstGeom prst="rect">
            <a:avLst/>
          </a:prstGeom>
          <a:ln w="0">
            <a:noFill/>
          </a:ln>
        </p:spPr>
      </p:sp>
      <p:sp>
        <p:nvSpPr>
          <p:cNvPr id="83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AD6D-7509-4E20-8583-B00725C35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76480" y="696960"/>
            <a:ext cx="4638600" cy="3479760"/>
          </a:xfrm>
          <a:prstGeom prst="rect">
            <a:avLst/>
          </a:prstGeom>
          <a:ln w="0">
            <a:noFill/>
          </a:ln>
        </p:spPr>
      </p:sp>
      <p:sp>
        <p:nvSpPr>
          <p:cNvPr id="83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B8F8-CA2B-4687-AB08-F30A82518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76480" y="696960"/>
            <a:ext cx="4638600" cy="3479760"/>
          </a:xfrm>
          <a:prstGeom prst="rect">
            <a:avLst/>
          </a:prstGeom>
          <a:ln w="0">
            <a:noFill/>
          </a:ln>
        </p:spPr>
      </p:sp>
      <p:sp>
        <p:nvSpPr>
          <p:cNvPr id="84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4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5AF8-2A0B-46A8-A8BB-EA57BE6F6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76480" y="696960"/>
            <a:ext cx="4638600" cy="3479760"/>
          </a:xfrm>
          <a:prstGeom prst="rect">
            <a:avLst/>
          </a:prstGeom>
          <a:ln w="0">
            <a:noFill/>
          </a:ln>
        </p:spPr>
      </p:sp>
      <p:sp>
        <p:nvSpPr>
          <p:cNvPr id="84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4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F124-6D2C-4D4F-BC35-CC425F2B1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76480" y="696960"/>
            <a:ext cx="4638600" cy="3479760"/>
          </a:xfrm>
          <a:prstGeom prst="rect">
            <a:avLst/>
          </a:prstGeom>
          <a:ln w="0">
            <a:noFill/>
          </a:ln>
        </p:spPr>
      </p:sp>
      <p:sp>
        <p:nvSpPr>
          <p:cNvPr id="84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7127-F48E-47A7-AC82-3E3D4D710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76480" y="696960"/>
            <a:ext cx="4638600" cy="3479760"/>
          </a:xfrm>
          <a:prstGeom prst="rect">
            <a:avLst/>
          </a:prstGeom>
          <a:ln w="0">
            <a:noFill/>
          </a:ln>
        </p:spPr>
      </p:sp>
      <p:sp>
        <p:nvSpPr>
          <p:cNvPr id="85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9FFB-37C2-4737-A19B-557944845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76480" y="696960"/>
            <a:ext cx="4638600" cy="3479760"/>
          </a:xfrm>
          <a:prstGeom prst="rect">
            <a:avLst/>
          </a:prstGeom>
          <a:ln w="0">
            <a:noFill/>
          </a:ln>
        </p:spPr>
      </p:sp>
      <p:sp>
        <p:nvSpPr>
          <p:cNvPr id="85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ED67-1B3F-4BD1-8C20-2230F406D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76480" y="696960"/>
            <a:ext cx="4638600" cy="3479760"/>
          </a:xfrm>
          <a:prstGeom prst="rect">
            <a:avLst/>
          </a:prstGeom>
          <a:ln w="0">
            <a:noFill/>
          </a:ln>
        </p:spPr>
      </p:sp>
      <p:sp>
        <p:nvSpPr>
          <p:cNvPr id="86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6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2BB0-1ED0-46F8-BF85-DD101E609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76480" y="696960"/>
            <a:ext cx="4638600" cy="3479760"/>
          </a:xfrm>
          <a:prstGeom prst="rect">
            <a:avLst/>
          </a:prstGeom>
          <a:ln w="0">
            <a:noFill/>
          </a:ln>
        </p:spPr>
      </p:sp>
      <p:sp>
        <p:nvSpPr>
          <p:cNvPr id="86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6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8639-6D79-4CBF-8F46-9B0AD04D2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76480" y="696960"/>
            <a:ext cx="4638600" cy="3479760"/>
          </a:xfrm>
          <a:prstGeom prst="rect">
            <a:avLst/>
          </a:prstGeom>
          <a:ln w="0">
            <a:noFill/>
          </a:ln>
        </p:spPr>
      </p:sp>
      <p:sp>
        <p:nvSpPr>
          <p:cNvPr id="72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2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2CD1-8B60-4B5E-B26A-2CA1F1A65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76480" y="696960"/>
            <a:ext cx="4638600" cy="3479760"/>
          </a:xfrm>
          <a:prstGeom prst="rect">
            <a:avLst/>
          </a:prstGeom>
          <a:ln w="0">
            <a:noFill/>
          </a:ln>
        </p:spPr>
      </p:sp>
      <p:sp>
        <p:nvSpPr>
          <p:cNvPr id="86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51D1-5E48-4212-BA69-4B2A5D8B6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76480" y="696960"/>
            <a:ext cx="4638600" cy="3479760"/>
          </a:xfrm>
          <a:prstGeom prst="rect">
            <a:avLst/>
          </a:prstGeom>
          <a:ln w="0">
            <a:noFill/>
          </a:ln>
        </p:spPr>
      </p:sp>
      <p:sp>
        <p:nvSpPr>
          <p:cNvPr id="87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8D1E-F271-464E-8C16-85C4B4819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76480" y="696960"/>
            <a:ext cx="4638600" cy="3479760"/>
          </a:xfrm>
          <a:prstGeom prst="rect">
            <a:avLst/>
          </a:prstGeom>
          <a:ln w="0">
            <a:noFill/>
          </a:ln>
        </p:spPr>
      </p:sp>
      <p:sp>
        <p:nvSpPr>
          <p:cNvPr id="87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35FD-A874-48B8-BEA8-7ACE953AD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76480" y="696960"/>
            <a:ext cx="4638600" cy="3479760"/>
          </a:xfrm>
          <a:prstGeom prst="rect">
            <a:avLst/>
          </a:prstGeom>
          <a:ln w="0">
            <a:noFill/>
          </a:ln>
        </p:spPr>
      </p:sp>
      <p:sp>
        <p:nvSpPr>
          <p:cNvPr id="88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8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58EB-92DD-40F8-8C49-EB0C9CCE4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76480" y="696960"/>
            <a:ext cx="4638600" cy="3479760"/>
          </a:xfrm>
          <a:prstGeom prst="rect">
            <a:avLst/>
          </a:prstGeom>
          <a:ln w="0">
            <a:noFill/>
          </a:ln>
        </p:spPr>
      </p:sp>
      <p:sp>
        <p:nvSpPr>
          <p:cNvPr id="88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8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0EBB-4B66-4B86-89A0-393EDE1E0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76480" y="696960"/>
            <a:ext cx="4638600" cy="3479760"/>
          </a:xfrm>
          <a:prstGeom prst="rect">
            <a:avLst/>
          </a:prstGeom>
          <a:ln w="0">
            <a:noFill/>
          </a:ln>
        </p:spPr>
      </p:sp>
      <p:sp>
        <p:nvSpPr>
          <p:cNvPr id="88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9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2074-C64E-40D1-8DBA-2D8C83869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76480" y="696960"/>
            <a:ext cx="4638600" cy="3479760"/>
          </a:xfrm>
          <a:prstGeom prst="rect">
            <a:avLst/>
          </a:prstGeom>
          <a:ln w="0">
            <a:noFill/>
          </a:ln>
        </p:spPr>
      </p:sp>
      <p:sp>
        <p:nvSpPr>
          <p:cNvPr id="72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5E5B-4317-4CF2-8A6E-910449538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76480" y="696960"/>
            <a:ext cx="4638600" cy="3479760"/>
          </a:xfrm>
          <a:prstGeom prst="rect">
            <a:avLst/>
          </a:prstGeom>
          <a:ln w="0">
            <a:noFill/>
          </a:ln>
        </p:spPr>
      </p:sp>
      <p:sp>
        <p:nvSpPr>
          <p:cNvPr id="73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F258-41E7-42AC-B7BB-7CB598AF0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76480" y="696960"/>
            <a:ext cx="4638600" cy="3479760"/>
          </a:xfrm>
          <a:prstGeom prst="rect">
            <a:avLst/>
          </a:prstGeom>
          <a:ln w="0">
            <a:noFill/>
          </a:ln>
        </p:spPr>
      </p:sp>
      <p:sp>
        <p:nvSpPr>
          <p:cNvPr id="73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7B5E-772D-4650-B7DF-CE00575B0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76480" y="696960"/>
            <a:ext cx="4638600" cy="3479760"/>
          </a:xfrm>
          <a:prstGeom prst="rect">
            <a:avLst/>
          </a:prstGeom>
          <a:ln w="0">
            <a:noFill/>
          </a:ln>
        </p:spPr>
      </p:sp>
      <p:sp>
        <p:nvSpPr>
          <p:cNvPr id="74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4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CA4B-54A2-49EF-9914-8051FB7F7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76480" y="696960"/>
            <a:ext cx="4638600" cy="3479760"/>
          </a:xfrm>
          <a:prstGeom prst="rect">
            <a:avLst/>
          </a:prstGeom>
          <a:ln w="0">
            <a:noFill/>
          </a:ln>
        </p:spPr>
      </p:sp>
      <p:sp>
        <p:nvSpPr>
          <p:cNvPr id="74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4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7C93-00B7-43D6-991E-6208572E4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2D5BB7-3E0B-4DA8-9360-3280169E96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FD1DF01-8B2B-4BA0-877C-92DCEE8EB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D91DBFAA-8C2B-41AB-BCAC-9626CD1D107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8"/>
          </p:nvPr>
        </p:nvSpPr>
        <p:spPr/>
        <p:txBody>
          <a:bodyPr/>
          <a:p>
            <a:fld id="{BC329A71-B47E-4A7A-9A07-A2F84E68756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6337183D-2A3B-4DE5-BB2B-EEACAED1559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37DE92F2-863D-4243-AC6E-04213B935EE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4833C8C-38AF-4039-AA78-0F2F127BCAD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9C0A613F-BE37-4D80-A14B-D1C55285E2E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84424C67-16A0-4623-ABD4-DDBEA802A59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C74F6284-3CE7-46AF-A89E-0AF0583BF0D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2A3F37A3-709B-466E-AD93-2820C77EA10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2EC200B-624A-4C7C-8508-17D82FD47F8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80FD020-0040-4954-86FC-C8528925B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BAF983E7-8E3C-4B5A-A780-80579B6351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A1959B81-ED20-42DF-ACA0-74DD43305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A9C7DB75-9619-4E18-AF10-38C45617EA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0"/>
          </p:nvPr>
        </p:nvSpPr>
        <p:spPr/>
        <p:txBody>
          <a:bodyPr/>
          <a:p>
            <a:fld id="{4D1FC6F8-D332-4197-9CA2-AAF1E4B18B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ADEBF88D-DB7B-4318-89B0-EDD36FDED4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379B2E65-BEBF-460D-9E36-1239827CF5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B0A0064B-662C-4003-9E93-BE41CCEB8D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35F4D951-032D-4114-8AFE-444A6D1A6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F71426FA-3B4D-4C75-91DD-0B3380A3B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084A10BC-D4F5-4539-82B7-204D17E24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BBE09C7-787E-4E4B-8441-EF5775CEDC9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B60C5AA4-C834-4492-BB11-62587F12839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0BE1E13-725C-4990-8039-0BA4CE413BA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F02CE6FC-C5B9-4276-8F77-38FEB601F2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E9C77299-55F8-4E58-A72B-0D8E602D8A2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28C6D64C-A5CE-477B-AA31-4CF1BE11558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2"/>
          </p:nvPr>
        </p:nvSpPr>
        <p:spPr/>
        <p:txBody>
          <a:bodyPr/>
          <a:p>
            <a:fld id="{4414F19C-866B-4C6F-93A8-2F29358603D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402F8730-2BE0-410A-9C7F-1A92F533A34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B0E7889F-5A76-4B1D-890F-E59C64CDDD9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A47884EA-AD66-428A-902A-2EDE06A15FB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4EE3238A-54FF-450B-8DC3-8CE964E88DF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9A4C1D-2CF5-436B-B44B-DC79B70685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5BB55F42-4F10-4F68-805D-61E17A433E1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F861ED62-6F5A-4DAF-B4AC-248E657CA89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0B5B78E2-5190-4AEB-9A7A-AF4E14744A50}"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461F33A-008B-46BA-9577-B310A162A05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3E55AC97-2370-4E2C-9F22-9C8E16DABA6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76AE5B22-B7DF-4CBC-9792-8594A3F24AF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45B1FAC3-E78C-447C-A1AA-DE7F321FEF7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4"/>
          </p:nvPr>
        </p:nvSpPr>
        <p:spPr/>
        <p:txBody>
          <a:bodyPr/>
          <a:p>
            <a:fld id="{A611B1D6-EA79-405D-B662-F268743607F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EF13768A-8FE3-4FD4-B908-CBA81468664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C3F73498-BDC1-4752-85F3-3CEE4AF9D33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4CDE217-4D74-440A-8202-C751A3BE9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424D76F6-8C45-4294-B7E1-D49825EB50A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E3F6B33A-3458-492A-A01B-57CB21FD14A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B98BD91E-8DD8-4965-9C74-CB60A5D0791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BFF1A29C-D5E6-4645-9A5A-2C859D63DF1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570DB5EA-A443-47D9-ACFD-5282E308105C}"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EF97843-2FBA-438A-96E0-0BD283B43ACA}"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4D6F1EFC-B75C-4500-BA31-5F8B855DB5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5EAF63A9-08DD-4614-B85E-057683A447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81D457DE-D024-4AF6-A802-CD1F4EF72A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6"/>
          </p:nvPr>
        </p:nvSpPr>
        <p:spPr/>
        <p:txBody>
          <a:bodyPr/>
          <a:p>
            <a:fld id="{2878F8C8-1E31-4AA6-8B73-E057F003CF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D6F0AC4-0F93-4E12-A388-4AD0D0F07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7856CA79-C2F5-4041-AD65-38EF8E9D2F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35D765A3-208C-4B5C-BEBB-B761D6C865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3C286A24-785D-43E8-B112-8D1511056E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2670335B-17EC-44BF-A89E-E410DB8218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F12AFF75-7AAA-4B4F-9073-5E210A8254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2417A96B-DF39-4AC2-A769-3AEAABBA5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CCA33403-527D-4E46-9081-987F9DDA49D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EF78037-6290-440A-8387-6FC9046B0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4"/>
          </p:nvPr>
        </p:nvSpPr>
        <p:spPr/>
        <p:txBody>
          <a:bodyPr/>
          <a:p>
            <a:fld id="{B8ECB37C-73E7-4ED2-ACF8-CDD5BABBC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DFA3393-C68D-4869-8B8D-C57FF345B9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ACD5930-F865-4BE6-BDD6-9447C9F20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9506E2A-B8BC-42F2-9399-6AA2FE757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DDEE983-0814-4904-B5AB-98F35CEBC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BA59F89-00AE-4C82-998A-5372A2995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17D5ED3-4AA3-4804-BC24-10A72D6D5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C982CBC-E41E-4BC5-B388-519840BC6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6268CBBA-A597-46EB-A203-6141D729EC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2D9E129-37B6-4B4F-9F92-551A3617E12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29DA3EC-631A-4C15-AAD7-10B09BEDB31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8502651-4F47-4085-98BF-216DACEE64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8EFD008-CB25-44BC-ABE7-36E5FC0FE7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6"/>
          </p:nvPr>
        </p:nvSpPr>
        <p:spPr/>
        <p:txBody>
          <a:bodyPr/>
          <a:p>
            <a:fld id="{435A821E-CB6A-48A7-A415-DBB9DC3441C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05B54B8-2233-4FA9-85C1-2208E309B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CAA8BCDC-C8D5-4444-A768-36A31CC6EA4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8A93996-0E6B-45B3-8A59-30720B38640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02C78D8-9E57-42EE-9893-2439851873D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4A51CC5-2202-4C02-A9F9-703ACEC45D0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D1537A9-4F85-4D29-8F0D-867E305E4B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412D7C0-1663-42C9-8390-C3D055B268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586ADBCD-D554-4B87-83F5-F875F765E75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745565A-A075-482A-A2BC-0FED7BBC4EE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F65414E-D584-4B25-9C02-A1C7C5FC82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6672F6B-8543-477D-ADD6-831A28C32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D65B471-BCA6-4916-9243-4B6EA27C7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63E2E70-89BC-4EE1-9E3C-F559FA7D74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8"/>
          </p:nvPr>
        </p:nvSpPr>
        <p:spPr/>
        <p:txBody>
          <a:bodyPr/>
          <a:p>
            <a:fld id="{50979DCA-2193-44FF-ACCD-8D340B2FCF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51CFAE5F-5766-4631-B840-54E16DA223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D543DC4-8D55-4081-9734-51FDDFC26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2ABC2E7-B484-42A8-94CE-BE714FAB1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1E9C387-0B5F-4D44-B36D-5A0794A36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471CDC0-BB1D-4B59-84CE-4965887AA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3610F90-0620-40E0-B15E-FEC1EBA40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27B9FED1-55A7-45D4-A84C-56AF4784F3B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32F0DCC-8648-4E80-8F79-70A5A8B6C32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
          </p:nvPr>
        </p:nvSpPr>
        <p:spPr/>
        <p:txBody>
          <a:bodyPr/>
          <a:p>
            <a:fld id="{A7CC3DB8-7304-48FE-A522-8A66BB0E6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F9B0D1D-56E1-48E3-85EE-2AC30672A7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48FF017B-A76B-4125-89FB-447FCEBCC1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8EF22EF-35F5-4E81-85CC-6DC2C9356C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0"/>
          </p:nvPr>
        </p:nvSpPr>
        <p:spPr/>
        <p:txBody>
          <a:bodyPr/>
          <a:p>
            <a:fld id="{A30C38C6-5A04-468C-9FF4-74B300202D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70AEAF4-A955-41C0-A769-FD7E7CE08E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4B74C44-E696-4952-BADC-D8954F6F49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33D9F51-2847-4839-8EC7-C46284AA0E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E74DF66-4547-4245-918F-C66C552320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D1636B6-6DA9-47AC-807E-ADB542F0CC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B786183A-0DBF-4B42-A410-E6C4A711A4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1138EEE-DFCF-4B50-8EC0-665F49C00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39208901-B025-4A37-A194-5BC94CE584D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1FC03C0-32BC-41BE-85C3-BBEECC13C69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F2AB145-728C-48B1-A115-356E333EAE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4A179D9-EEA9-4539-A79E-23BFB6A15B0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EA77CDF-01E6-4BEB-BD77-513B4EE1D6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2"/>
          </p:nvPr>
        </p:nvSpPr>
        <p:spPr/>
        <p:txBody>
          <a:bodyPr/>
          <a:p>
            <a:fld id="{0CBDCD36-1E67-4A22-8A4D-1D0A8430203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3A9A6E3-90F9-4EC2-8723-5C56F937F3C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53EE924-3C84-4EAC-A53C-EC07A44302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B474647-2900-4784-8E6D-863FF4CCCD8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23C0004-0DF0-4E29-8643-FFB26F833B8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3DDC423-C071-417A-AB5C-0415BEF5E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8C25C07-E680-456D-BD1F-97C9519E699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913E2611-3596-44E0-9A88-D3463C0AED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B379414A-315B-4AFC-ADF3-BE371F96A6DE}"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6D7A2EB-A3E6-4DF6-B3DE-54FE195B9FA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E884BB6-66BC-43EF-AA22-03B630068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51C5852-B514-40B3-8273-0B03F1BF54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29002F4-89B7-44B9-A8F4-A9E18130FA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4"/>
          </p:nvPr>
        </p:nvSpPr>
        <p:spPr/>
        <p:txBody>
          <a:bodyPr/>
          <a:p>
            <a:fld id="{B2328F16-26E8-4BBC-8469-77C8DB19C5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0786FFF-357B-4312-945F-6D221EC7C9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7946C3E-C56F-44A7-9D2E-34AA9D010E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CA8AFFD-0F93-48CE-9FCE-495281A57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DE0B579-7D59-46C5-B758-77D05BF0C1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FE6F930-1072-4115-A847-54C229D72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3BF882C-AB80-42D2-B692-83D7C180AA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DDF6D932-BCC1-4AE3-9661-A31A3BED7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538BC548-FCE4-499E-B9FC-D22BC6E3B7F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561A0A8-AECE-42E6-A1FD-4B5CAB8A73B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5E27877E-9725-4B28-A835-E570705B522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8EE4DB7F-B5DC-4F3B-912B-A7DDA97C690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3A02C3E1-6850-4603-9418-37C4CBFDE3C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6"/>
          </p:nvPr>
        </p:nvSpPr>
        <p:spPr/>
        <p:txBody>
          <a:bodyPr/>
          <a:p>
            <a:fld id="{47B834CD-9A7B-4F1A-8C67-EAA49FA902E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50495C2-40FF-423A-9360-FEFDC554B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4718428B-5E0C-4880-B7A7-CB207B98EC0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C17148D9-7E61-4116-9CA7-86C9D753960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7844AA5F-FAEF-42FA-9FD1-1CCCD1196F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05268F77-1F2A-402D-8081-2A60EE1A683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482CC4E8-ACD1-46AE-88CC-5CC0D896E7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AA833531-6AE2-47FB-9315-E836838DD2A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5988587C-96D1-42E4-A683-256A1F8D9AE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929E236-06E1-46D3-B563-ED51A809083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CFC5DEF9-8451-4DE0-AA6D-C84A7AD627D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D484C6C6-F2EF-45A2-B1A1-DDF5091C27B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F0F8-D055-47BE-B2F6-6BEE8F1E8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2" name="PlaceHolder 3"/>
          <p:cNvSpPr>
            <a:spLocks noGrp="1"/>
          </p:cNvSpPr>
          <p:nvPr>
            <p:ph type="dt" idx="19"/>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4"/>
          <p:cNvSpPr>
            <a:spLocks noGrp="1"/>
          </p:cNvSpPr>
          <p:nvPr>
            <p:ph type="sldNum" idx="20"/>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2EA4-4FAA-4A54-88C0-FC1397C36B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 name="PlaceHolder 3"/>
          <p:cNvSpPr>
            <a:spLocks noGrp="1"/>
          </p:cNvSpPr>
          <p:nvPr>
            <p:ph type="dt" idx="21"/>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4"/>
          <p:cNvSpPr>
            <a:spLocks noGrp="1"/>
          </p:cNvSpPr>
          <p:nvPr>
            <p:ph type="sldNum" idx="2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2E74-0054-468E-9106-B4087FC0E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2" name="PlaceHolder 3"/>
          <p:cNvSpPr>
            <a:spLocks noGrp="1"/>
          </p:cNvSpPr>
          <p:nvPr>
            <p:ph type="dt" idx="2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PlaceHolder 4"/>
          <p:cNvSpPr>
            <a:spLocks noGrp="1"/>
          </p:cNvSpPr>
          <p:nvPr>
            <p:ph type="sldNum" idx="2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C63C-8F90-4419-940C-9DE3BD372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2" name="PlaceHolder 3"/>
          <p:cNvSpPr>
            <a:spLocks noGrp="1"/>
          </p:cNvSpPr>
          <p:nvPr>
            <p:ph type="dt" idx="2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PlaceHolder 4"/>
          <p:cNvSpPr>
            <a:spLocks noGrp="1"/>
          </p:cNvSpPr>
          <p:nvPr>
            <p:ph type="sldNum" idx="2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D7B0-E499-42BB-BDF7-BAA2CBE51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dt" idx="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2E8C-31F7-423D-859B-E6DAEFD705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dt" idx="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PlaceHolder 4"/>
          <p:cNvSpPr>
            <a:spLocks noGrp="1"/>
          </p:cNvSpPr>
          <p:nvPr>
            <p:ph type="sldNum" idx="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BAD2-A33F-4F93-AE46-E487F874A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3"/>
          <p:cNvSpPr>
            <a:spLocks noGrp="1"/>
          </p:cNvSpPr>
          <p:nvPr>
            <p:ph type="dt" idx="7"/>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4"/>
          <p:cNvSpPr>
            <a:spLocks noGrp="1"/>
          </p:cNvSpPr>
          <p:nvPr>
            <p:ph type="sldNum" idx="8"/>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1C3C-1DA2-4AA3-86F7-EA6163546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2" name="PlaceHolder 3"/>
          <p:cNvSpPr>
            <a:spLocks noGrp="1"/>
          </p:cNvSpPr>
          <p:nvPr>
            <p:ph type="dt" idx="9"/>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4"/>
          <p:cNvSpPr>
            <a:spLocks noGrp="1"/>
          </p:cNvSpPr>
          <p:nvPr>
            <p:ph type="sldNum" idx="10"/>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C446-91AD-40AA-8151-2E3858E0A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2" name="PlaceHolder 3"/>
          <p:cNvSpPr>
            <a:spLocks noGrp="1"/>
          </p:cNvSpPr>
          <p:nvPr>
            <p:ph type="dt" idx="11"/>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4"/>
          <p:cNvSpPr>
            <a:spLocks noGrp="1"/>
          </p:cNvSpPr>
          <p:nvPr>
            <p:ph type="sldNum" idx="1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0818-CC4C-4444-B034-C821516B7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 name="PlaceHolder 3"/>
          <p:cNvSpPr>
            <a:spLocks noGrp="1"/>
          </p:cNvSpPr>
          <p:nvPr>
            <p:ph type="dt" idx="1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4"/>
          <p:cNvSpPr>
            <a:spLocks noGrp="1"/>
          </p:cNvSpPr>
          <p:nvPr>
            <p:ph type="sldNum" idx="1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7BEB-BAD6-4761-B4F2-C37B77879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2" name="PlaceHolder 3"/>
          <p:cNvSpPr>
            <a:spLocks noGrp="1"/>
          </p:cNvSpPr>
          <p:nvPr>
            <p:ph type="dt" idx="1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4"/>
          <p:cNvSpPr>
            <a:spLocks noGrp="1"/>
          </p:cNvSpPr>
          <p:nvPr>
            <p:ph type="sldNum" idx="1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C8F7-89A9-495C-9FF7-6E54B71D0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2" name="PlaceHolder 3"/>
          <p:cNvSpPr>
            <a:spLocks noGrp="1"/>
          </p:cNvSpPr>
          <p:nvPr>
            <p:ph type="dt" idx="17"/>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4"/>
          <p:cNvSpPr>
            <a:spLocks noGrp="1"/>
          </p:cNvSpPr>
          <p:nvPr>
            <p:ph type="sldNum" idx="18"/>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786F-537A-4028-8614-032199D65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4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4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C7A1-5515-4862-A59F-14C6520A7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9" name="PlaceHolder 1"/>
          <p:cNvSpPr>
            <a:spLocks noGrp="1"/>
          </p:cNvSpPr>
          <p:nvPr>
            <p:ph type="title"/>
          </p:nvPr>
        </p:nvSpPr>
        <p:spPr>
          <a:xfrm>
            <a:off x="304920" y="83772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 Framework for Assessing Equity and Adequacy </a:t>
            </a:r>
            <a:br>
              <a:rPr sz="4800"/>
            </a:br>
            <a:r>
              <a:rPr b="0" lang="en-US" sz="4800" spc="-1" strike="noStrike">
                <a:solidFill>
                  <a:srgbClr val="3333cc"/>
                </a:solidFill>
                <a:latin typeface="Times New Roman"/>
              </a:rPr>
              <a:t>in School Finance </a:t>
            </a:r>
            <a:endParaRPr b="0" lang="en-US" sz="4800" spc="-1" strike="noStrike">
              <a:solidFill>
                <a:srgbClr val="3333cc"/>
              </a:solidFill>
              <a:latin typeface="Times New Roman"/>
            </a:endParaRPr>
          </a:p>
        </p:txBody>
      </p:sp>
      <p:sp>
        <p:nvSpPr>
          <p:cNvPr id="530" name="PlaceHolder 2"/>
          <p:cNvSpPr>
            <a:spLocks noGrp="1"/>
          </p:cNvSpPr>
          <p:nvPr>
            <p:ph/>
          </p:nvPr>
        </p:nvSpPr>
        <p:spPr>
          <a:xfrm>
            <a:off x="685800" y="4191120"/>
            <a:ext cx="7772400" cy="129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80E0-488A-428F-B402-72E615C7C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pil Count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5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rollment – students enrolled as measured on a day, month, or whatever</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 – average daily membership – closer to an enrollment figur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 – average daily attendance – measure of number of students who attend school</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pupil counts – wada or wadm – give extra “weight” to students with special needs who require more help and thus expendi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3D00-5A48-451A-8CE1-CAF83BC75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0"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 ante v. ex post analysis </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ory</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actice</a:t>
            </a: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of analysi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F707-40AF-4490-98B7-20A21C81D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s of interest</a:t>
            </a:r>
            <a:endParaRPr b="0" lang="en-US" sz="32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cal variable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al process variable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size, curriculum, instructional practice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achievement variables </a:t>
            </a:r>
            <a:endParaRPr b="0" lang="en-US" sz="24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of concern</a:t>
            </a:r>
            <a:endParaRPr b="0" lang="en-US" sz="32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payers </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7873-F2B1-4B75-A331-711ED93A1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concepts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scal neutrality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equity</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equity </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cy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adequacy also improves equit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D501-387D-4A2D-898D-C2FB21087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1" name="PlaceHolder 1"/>
          <p:cNvSpPr>
            <a:spLocks noGrp="1"/>
          </p:cNvSpPr>
          <p:nvPr>
            <p:ph type="title"/>
          </p:nvPr>
        </p:nvSpPr>
        <p:spPr>
          <a:xfrm>
            <a:off x="609480" y="609120"/>
            <a:ext cx="78487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scal Neutrality</a:t>
            </a:r>
            <a:endParaRPr b="0" lang="en-US" sz="4400" spc="-1" strike="noStrike">
              <a:solidFill>
                <a:srgbClr val="3333cc"/>
              </a:solidFill>
              <a:latin typeface="Times New Roman"/>
            </a:endParaRPr>
          </a:p>
        </p:txBody>
      </p:sp>
      <p:sp>
        <p:nvSpPr>
          <p:cNvPr id="582" name="PlaceHolder 2"/>
          <p:cNvSpPr>
            <a:spLocks noGrp="1"/>
          </p:cNvSpPr>
          <p:nvPr>
            <p:ph/>
          </p:nvPr>
        </p:nvSpPr>
        <p:spPr>
          <a:xfrm>
            <a:off x="609480" y="1904760"/>
            <a:ext cx="7772400" cy="38862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objects (expenditures/revenues per pupil, etc.) cannot be a function of local wealth</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connection between property wealth per pupil (or family income) and object</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coefficient</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wealth elasticity (slop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is less than or equal to 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6CC2-F78F-466A-9BEC-C8A9AEBF6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o Fiscal Neutrality</a:t>
            </a:r>
            <a:endParaRPr b="0" lang="en-US" sz="4400" spc="-1" strike="noStrike">
              <a:solidFill>
                <a:srgbClr val="3333cc"/>
              </a:solidFill>
              <a:latin typeface="Times New Roman"/>
            </a:endParaRPr>
          </a:p>
        </p:txBody>
      </p:sp>
      <p:graphicFrame>
        <p:nvGraphicFramePr>
          <p:cNvPr id="586" name="Object 5"/>
          <p:cNvGraphicFramePr/>
          <p:nvPr/>
        </p:nvGraphicFramePr>
        <p:xfrm>
          <a:off x="1566720" y="1690560"/>
          <a:ext cx="6434280" cy="4405320"/>
        </p:xfrm>
        <a:graphic>
          <a:graphicData uri="http://schemas.openxmlformats.org/presentationml/2006/ole">
            <p:oleObj progId="Excel.Sheet.12" r:id="rId1" spid="">
              <p:embed/>
              <p:pic>
                <p:nvPicPr>
                  <p:cNvPr id="587" name="Object 5" descr=""/>
                  <p:cNvPicPr/>
                  <p:nvPr/>
                </p:nvPicPr>
                <p:blipFill>
                  <a:blip r:embed="rId2"/>
                  <a:stretch/>
                </p:blipFill>
                <p:spPr>
                  <a:xfrm>
                    <a:off x="1566720" y="1690560"/>
                    <a:ext cx="6434280" cy="44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A8AA-7477-4B1A-AD2B-FFC911960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scal Neutrality</a:t>
            </a:r>
            <a:endParaRPr b="0" lang="en-US" sz="4400" spc="-1" strike="noStrike">
              <a:solidFill>
                <a:srgbClr val="3333cc"/>
              </a:solidFill>
              <a:latin typeface="Times New Roman"/>
            </a:endParaRPr>
          </a:p>
        </p:txBody>
      </p:sp>
      <p:graphicFrame>
        <p:nvGraphicFramePr>
          <p:cNvPr id="591" name="Object 5"/>
          <p:cNvGraphicFramePr/>
          <p:nvPr/>
        </p:nvGraphicFramePr>
        <p:xfrm>
          <a:off x="1563840" y="1981080"/>
          <a:ext cx="6016320" cy="4114800"/>
        </p:xfrm>
        <a:graphic>
          <a:graphicData uri="http://schemas.openxmlformats.org/presentationml/2006/ole">
            <p:oleObj progId="Excel.Sheet.12" r:id="rId1" spid="">
              <p:embed/>
              <p:pic>
                <p:nvPicPr>
                  <p:cNvPr id="592" name="Object 5" descr=""/>
                  <p:cNvPicPr/>
                  <p:nvPr/>
                </p:nvPicPr>
                <p:blipFill>
                  <a:blip r:embed="rId2"/>
                  <a:stretch/>
                </p:blipFill>
                <p:spPr>
                  <a:xfrm>
                    <a:off x="1563840" y="1981080"/>
                    <a:ext cx="60163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94C1-4C51-4A25-A2B2-CD6F0DAA6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596"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 Highest minus Lowes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all observations</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measures two observ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liers not accounted f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to Inflation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BA32-BEF7-4880-8E41-F0B82F62C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600"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ed Range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 Between Observation at 95th Percentile and 5th Percentile</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avoids problems of Outliers</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only two observ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to Inflation</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red to Range, but Still not Grea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86EF-A83A-46C4-B63F-D069CBAB45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3"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604"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Range Rati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95th - 5th</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th</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es how much larger the observation at the 95th percentile is than the observation at the 5th percentil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A2A3-E740-42A2-AAF1-FDD1FBE74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Defining &amp; Measuring School Finance Equity &amp; Adequacy</a:t>
            </a:r>
            <a:endParaRPr b="0" lang="en-US" sz="4800" spc="-1" strike="noStrike">
              <a:solidFill>
                <a:srgbClr val="3333cc"/>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s about Public School Revenues, Expenditures and Pupil Counts</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ne &amp; Stiefel’s Updated Equity Framework</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of School Finance Equity and Adequacy</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Determining School Finance Adequacy</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B11F-1F3C-4A42-9909-19E14C47A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sp>
        <p:nvSpPr>
          <p:cNvPr id="6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V = STD / Me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s the amount of variation around the me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expressed as a percent</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0.1 = 10% </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7% of values within 1 S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of values within 2 S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3EBD-C5AE-43B9-883C-843A70A25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graphicFrame>
        <p:nvGraphicFramePr>
          <p:cNvPr id="612" name="Object 5"/>
          <p:cNvGraphicFramePr/>
          <p:nvPr/>
        </p:nvGraphicFramePr>
        <p:xfrm>
          <a:off x="1447920" y="2057400"/>
          <a:ext cx="6026040" cy="3367080"/>
        </p:xfrm>
        <a:graphic>
          <a:graphicData uri="http://schemas.openxmlformats.org/presentationml/2006/ole">
            <p:oleObj progId="Word.Document.12" r:id="rId1" spid="">
              <p:embed/>
              <p:pic>
                <p:nvPicPr>
                  <p:cNvPr id="613" name="Object 5" descr=""/>
                  <p:cNvPicPr/>
                  <p:nvPr/>
                </p:nvPicPr>
                <p:blipFill>
                  <a:blip r:embed="rId2"/>
                  <a:stretch/>
                </p:blipFill>
                <p:spPr>
                  <a:xfrm>
                    <a:off x="1447920" y="2057400"/>
                    <a:ext cx="6026040" cy="33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DF72-9617-47B4-B008-C594EC9C6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sp>
        <p:nvSpPr>
          <p:cNvPr id="6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s</a:t>
            </a:r>
            <a:endParaRPr b="0" lang="en-US" sz="22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s all values in the data set</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not change with inflation</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to understand</a:t>
            </a:r>
            <a:endParaRPr b="0" lang="en-US" sz="1800" spc="-1" strike="noStrike">
              <a:solidFill>
                <a:srgbClr val="000000"/>
              </a:solidFill>
              <a:latin typeface="Times New Roman"/>
            </a:endParaRPr>
          </a:p>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a:t>
            </a:r>
            <a:endParaRPr b="0" lang="en-US" sz="22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the value that determines a fair or equitable distribution? </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a relative or absolute standard?</a:t>
            </a:r>
            <a:endParaRPr b="0" lang="en-US" sz="1800" spc="-1" strike="noStrike">
              <a:solidFill>
                <a:srgbClr val="000000"/>
              </a:solidFill>
              <a:latin typeface="Times New Roman"/>
            </a:endParaRPr>
          </a:p>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suggest a target goal of 0.1 (absolute standard)</a:t>
            </a:r>
            <a:endParaRPr b="0" lang="en-US" sz="22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D =10% of average</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xample: If average is $7,000:</a:t>
            </a:r>
            <a:endParaRPr b="0" lang="en-US" sz="1900" spc="-1" strike="noStrike">
              <a:solidFill>
                <a:srgbClr val="000000"/>
              </a:solidFill>
              <a:latin typeface="Times New Roman"/>
            </a:endParaRPr>
          </a:p>
          <a:p>
            <a:pPr lvl="2" marL="1143000" indent="-228600">
              <a:lnSpc>
                <a:spcPct val="90000"/>
              </a:lnSpc>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3 of values will be between $6,300 and $7,700</a:t>
            </a:r>
            <a:endParaRPr b="0" lang="en-US" sz="1700" spc="-1" strike="noStrike">
              <a:solidFill>
                <a:srgbClr val="000000"/>
              </a:solidFill>
              <a:latin typeface="Times New Roman"/>
            </a:endParaRPr>
          </a:p>
          <a:p>
            <a:pPr lvl="2" marL="1143000" indent="-228600">
              <a:lnSpc>
                <a:spcPct val="90000"/>
              </a:lnSpc>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95% of values will be between $5,600 and $8,400</a:t>
            </a:r>
            <a:endParaRPr b="0" lang="en-US" sz="1700" spc="-1" strike="noStrike">
              <a:solidFill>
                <a:srgbClr val="000000"/>
              </a:solidFill>
              <a:latin typeface="Times New Roman"/>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0B1F-4314-4885-AB8F-E50162FDAB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ini Coefficient</a:t>
            </a:r>
            <a:endParaRPr b="0" lang="en-US" sz="4400" spc="-1" strike="noStrike">
              <a:solidFill>
                <a:srgbClr val="3333cc"/>
              </a:solidFill>
              <a:latin typeface="Times New Roman"/>
            </a:endParaRPr>
          </a:p>
        </p:txBody>
      </p:sp>
      <p:sp>
        <p:nvSpPr>
          <p:cNvPr id="62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Value of Gini:</a:t>
            </a:r>
            <a:endParaRPr b="0" lang="en-US" sz="3300" spc="-1" strike="noStrike">
              <a:solidFill>
                <a:srgbClr val="000000"/>
              </a:solidFill>
              <a:latin typeface="Times New Roman"/>
            </a:endParaRPr>
          </a:p>
          <a:p>
            <a:pPr marL="3394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 / (A+B)</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Value ranges from 0 to 1</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Smaller Values Represent Greater Equity </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If expenditures are completely equal, A = 0 and the Gini Coefficient becomes 0</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im for 0.5</a:t>
            </a:r>
            <a:endParaRPr b="0" lang="en-US" sz="3300" spc="-1" strike="noStrike">
              <a:solidFill>
                <a:srgbClr val="000000"/>
              </a:solidFill>
              <a:latin typeface="Times New Roman"/>
            </a:endParaRPr>
          </a:p>
          <a:p>
            <a:pPr marL="3394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D751-33E0-40D2-82AE-B3C5D436C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ini Coefficient</a:t>
            </a:r>
            <a:endParaRPr b="0" lang="en-US" sz="4400" spc="-1" strike="noStrike">
              <a:solidFill>
                <a:srgbClr val="3333cc"/>
              </a:solidFill>
              <a:latin typeface="Times New Roman"/>
            </a:endParaRPr>
          </a:p>
        </p:txBody>
      </p:sp>
      <p:graphicFrame>
        <p:nvGraphicFramePr>
          <p:cNvPr id="625" name="Object 5"/>
          <p:cNvGraphicFramePr/>
          <p:nvPr/>
        </p:nvGraphicFramePr>
        <p:xfrm>
          <a:off x="1828800" y="2590920"/>
          <a:ext cx="5491080" cy="2698560"/>
        </p:xfrm>
        <a:graphic>
          <a:graphicData uri="http://schemas.openxmlformats.org/presentationml/2006/ole">
            <p:oleObj progId="Word.Document.12" r:id="rId1" spid="">
              <p:embed/>
              <p:pic>
                <p:nvPicPr>
                  <p:cNvPr id="626" name="Object 5" descr=""/>
                  <p:cNvPicPr/>
                  <p:nvPr/>
                </p:nvPicPr>
                <p:blipFill>
                  <a:blip r:embed="rId2"/>
                  <a:stretch/>
                </p:blipFill>
                <p:spPr>
                  <a:xfrm>
                    <a:off x="1828800" y="2590920"/>
                    <a:ext cx="5491080" cy="26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9517-8103-4EF3-A2AE-33743723B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cLoone Index</a:t>
            </a:r>
            <a:endParaRPr b="0" lang="en-US" sz="4400" spc="-1" strike="noStrike">
              <a:solidFill>
                <a:srgbClr val="3333cc"/>
              </a:solidFill>
              <a:latin typeface="Times New Roman"/>
            </a:endParaRPr>
          </a:p>
        </p:txBody>
      </p:sp>
      <p:sp>
        <p:nvSpPr>
          <p:cNvPr id="6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to School Financ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Equity for the Bottom Part of the Distribution</a:t>
            </a:r>
            <a:endParaRPr b="0" lang="en-US" sz="3200" spc="-1" strike="noStrike">
              <a:solidFill>
                <a:srgbClr val="000000"/>
              </a:solidFill>
              <a:latin typeface="Times New Roman"/>
            </a:endParaRPr>
          </a:p>
          <a:p>
            <a:pPr marL="343080" indent="-343080">
              <a:lnSpc>
                <a:spcPct val="8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Ratio of the Sum of the values of all observations below the median to the corresponding sum if all observations had the value of the medi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of 1 means perfect equ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45EA-CE20-428C-A8D4-02C51F2BA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cLoone Index</a:t>
            </a:r>
            <a:endParaRPr b="0" lang="en-US" sz="4400" spc="-1" strike="noStrike">
              <a:solidFill>
                <a:srgbClr val="3333cc"/>
              </a:solidFill>
              <a:latin typeface="Times New Roman"/>
            </a:endParaRPr>
          </a:p>
        </p:txBody>
      </p:sp>
      <p:sp>
        <p:nvSpPr>
          <p:cNvPr id="6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teps to calculate</a:t>
            </a:r>
            <a:endParaRPr b="0" lang="en-US" sz="29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data by revenue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median student and the revenues going to that student (Median rev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district with revenues below the median: </a:t>
            </a:r>
            <a:endParaRPr b="0" lang="en-US" sz="24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 = (#students x District Revs)</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 ((#students x Median Revs)</a:t>
            </a:r>
            <a:endParaRPr b="0" lang="en-US" sz="2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 N &amp; D for each district below the median</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 N/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44CB-D040-46E8-8E6D-08DBBAF751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Verstegen Index</a:t>
            </a:r>
            <a:endParaRPr b="0" lang="en-US" sz="4400" spc="-1" strike="noStrike">
              <a:solidFill>
                <a:srgbClr val="3333cc"/>
              </a:solidFill>
              <a:latin typeface="Times New Roman"/>
            </a:endParaRPr>
          </a:p>
        </p:txBody>
      </p:sp>
      <p:sp>
        <p:nvSpPr>
          <p:cNvPr id="6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ly the opposite or symmetrical version of McLoone </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inequity of the distribution for districts spending above the medi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l measure would be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5E8B-79C4-49E6-86E3-E68C74AA8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1" name="PlaceHolder 1"/>
          <p:cNvSpPr>
            <a:spLocks noGrp="1"/>
          </p:cNvSpPr>
          <p:nvPr>
            <p:ph type="title"/>
          </p:nvPr>
        </p:nvSpPr>
        <p:spPr>
          <a:xfrm>
            <a:off x="533160" y="60912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Vertical Equity</a:t>
            </a:r>
            <a:endParaRPr b="0" lang="en-US" sz="4000" spc="-1" strike="noStrike">
              <a:solidFill>
                <a:srgbClr val="3333cc"/>
              </a:solidFill>
              <a:latin typeface="Times New Roman"/>
            </a:endParaRPr>
          </a:p>
        </p:txBody>
      </p:sp>
      <p:sp>
        <p:nvSpPr>
          <p:cNvPr id="642" name="PlaceHolder 2"/>
          <p:cNvSpPr>
            <a:spLocks noGrp="1"/>
          </p:cNvSpPr>
          <p:nvPr>
            <p:ph/>
          </p:nvPr>
        </p:nvSpPr>
        <p:spPr>
          <a:xfrm>
            <a:off x="609120" y="1447560"/>
            <a:ext cx="7743960" cy="464796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d by varying student (low income, disability, English proficiency), district (large or small size, price differences) or school needs (size, etc.)</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er can be addressed with pupil weights that indicate degree of additional need, or by categorical program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make size adjustments but controversial</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have geographic price indices, b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DB9B-6021-4FEE-AEBD-1D29A5A30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5"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ing Equity with Vertical Equity Adjustments</a:t>
            </a:r>
            <a:endParaRPr b="0" lang="en-US" sz="4400" spc="-1" strike="noStrike">
              <a:solidFill>
                <a:srgbClr val="3333cc"/>
              </a:solidFill>
              <a:latin typeface="Times New Roman"/>
            </a:endParaRPr>
          </a:p>
        </p:txBody>
      </p:sp>
      <p:sp>
        <p:nvSpPr>
          <p:cNvPr id="646"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lude state and federal categorical  programs when calculating fiscal neutrality or horizontal equity statistic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state and federal categorical programs but then weight the student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ctual state weights  O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eights from research (GAO; Odden, Busch and Kucharz, WI research) – 1.9 for disabled, 1.25 for low income and LEP are the common pupil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E4B3-37B4-4888-BBB5-58B256E17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38" name="PlaceHolder 2"/>
          <p:cNvSpPr>
            <a:spLocks noGrp="1"/>
          </p:cNvSpPr>
          <p:nvPr>
            <p:ph/>
          </p:nvPr>
        </p:nvSpPr>
        <p:spPr>
          <a:xfrm>
            <a:off x="609120" y="1676520"/>
            <a:ext cx="774396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 primarily from local (42%) and state (51%) sources, with about 7 % from the federal government</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revenues derive from a variety of state taxes – income both personal and corporate, sales, fees.  </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rarely dedicate any tax or portion thereof to education.  When they do, it is only small amou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BD94-CB83-45BB-809E-7FDAEFDDA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dden Picus Adequacy Index</a:t>
            </a:r>
            <a:endParaRPr b="0" lang="en-US" sz="4400" spc="-1" strike="noStrike">
              <a:solidFill>
                <a:srgbClr val="3333cc"/>
              </a:solidFill>
              <a:latin typeface="Times New Roman"/>
            </a:endParaRPr>
          </a:p>
        </p:txBody>
      </p:sp>
      <p:sp>
        <p:nvSpPr>
          <p:cNvPr id="6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cLoone type computation to get at funds required to reach adequacy </a:t>
            </a:r>
            <a:endParaRPr b="0" lang="en-US" sz="29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dequate” spending level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percent of students </a:t>
            </a:r>
            <a:r>
              <a:rPr b="0" lang="en-US" sz="2400" spc="-1" strike="noStrike">
                <a:solidFill>
                  <a:srgbClr val="f60623"/>
                </a:solidFill>
                <a:latin typeface="Times New Roman"/>
              </a:rPr>
              <a:t>above</a:t>
            </a:r>
            <a:r>
              <a:rPr b="0" lang="en-US" sz="2400" spc="-1" strike="noStrike">
                <a:solidFill>
                  <a:srgbClr val="000000"/>
                </a:solidFill>
                <a:latin typeface="Times New Roman"/>
              </a:rPr>
              <a:t> that level=A</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a McLoone ratio but using the </a:t>
            </a:r>
            <a:r>
              <a:rPr b="0" lang="en-US" sz="2400" spc="-1" strike="noStrike">
                <a:solidFill>
                  <a:srgbClr val="f60623"/>
                </a:solidFill>
                <a:latin typeface="Times New Roman"/>
              </a:rPr>
              <a:t>adequate</a:t>
            </a:r>
            <a:r>
              <a:rPr b="0" lang="en-US" sz="2400" spc="-1" strike="noStrike">
                <a:solidFill>
                  <a:srgbClr val="000000"/>
                </a:solidFill>
                <a:latin typeface="Times New Roman"/>
              </a:rPr>
              <a:t> level rather than the median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by the percent below adequacy level =B</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 + B </a:t>
            </a:r>
            <a:endParaRPr b="0" lang="en-US" sz="2400" spc="-1" strike="noStrike">
              <a:solidFill>
                <a:srgbClr val="000000"/>
              </a:solidFill>
              <a:latin typeface="Times New Roman"/>
            </a:endParaRPr>
          </a:p>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e Example on next slide</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5F41-C088-4E88-8F98-72803F069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dden Picus Adequacy Index</a:t>
            </a:r>
            <a:endParaRPr b="0" lang="en-US" sz="4400" spc="-1" strike="noStrike">
              <a:solidFill>
                <a:srgbClr val="3333cc"/>
              </a:solidFill>
              <a:latin typeface="Times New Roman"/>
            </a:endParaRPr>
          </a:p>
        </p:txBody>
      </p:sp>
      <p:sp>
        <p:nvSpPr>
          <p:cNvPr id="6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60% above adequate level </a:t>
            </a:r>
            <a:endParaRPr b="0" lang="en-US" sz="29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cLoone type computation is 0.8</a:t>
            </a:r>
            <a:endParaRPr b="0" lang="en-US" sz="29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ultiply by percent below adequate </a:t>
            </a:r>
            <a:endParaRPr b="0" lang="en-US" sz="29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 x 0.4 = 0.32 </a:t>
            </a:r>
            <a:endParaRPr b="0" lang="en-US" sz="24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dd to percent above adequate level</a:t>
            </a:r>
            <a:endParaRPr b="0" lang="en-US" sz="29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AI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0.32 + 0.60 = 0.92 </a:t>
            </a:r>
            <a:endParaRPr b="0" lang="en-US" sz="24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Revenue increase of 8% to districts below adequacy level would fund adequacy for all districts </a:t>
            </a:r>
            <a:endParaRPr b="0" lang="en-US" sz="2900" spc="-1" strike="noStrike">
              <a:solidFill>
                <a:srgbClr val="000000"/>
              </a:solidFill>
              <a:latin typeface="Times New Roman"/>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0D32-8621-41BE-AE22-6A8F20B72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152280" y="228240"/>
            <a:ext cx="87631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pproaches to Determining an </a:t>
            </a:r>
            <a:br>
              <a:rPr sz="4400"/>
            </a:br>
            <a:r>
              <a:rPr b="0" lang="en-US" sz="4400" spc="-1" strike="noStrike">
                <a:solidFill>
                  <a:srgbClr val="3333cc"/>
                </a:solidFill>
                <a:latin typeface="Times New Roman"/>
              </a:rPr>
              <a:t>Adequate Fiscal Base</a:t>
            </a:r>
            <a:endParaRPr b="0" lang="en-US" sz="4400" spc="-1" strike="noStrike">
              <a:solidFill>
                <a:srgbClr val="3333cc"/>
              </a:solidFill>
              <a:latin typeface="Times New Roman"/>
            </a:endParaRPr>
          </a:p>
        </p:txBody>
      </p:sp>
      <p:sp>
        <p:nvSpPr>
          <p:cNvPr id="658"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could argue this is THE school finance research issue toda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currently, there are many approache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district approach – expenditures where students meet performance targets (IL, OH, K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cost function – research NY, WI, TX, IL, NB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judgment on quality inputs – WY, WI, MD, KY, SC, NY, MS, NB, KS, MT –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generation approaches needed</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based approach – NJ, KY, AR, AZ, WY – and in the future, other possibilities, including W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DAA7-A550-48CF-95FC-D6AC43A8D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pproaches to Determining an </a:t>
            </a:r>
            <a:br>
              <a:rPr sz="4400"/>
            </a:br>
            <a:r>
              <a:rPr b="0" lang="en-US" sz="4400" spc="-1" strike="noStrike">
                <a:solidFill>
                  <a:srgbClr val="3333cc"/>
                </a:solidFill>
                <a:latin typeface="Times New Roman"/>
              </a:rPr>
              <a:t>Adequate Fiscal Base</a:t>
            </a:r>
            <a:endParaRPr b="0" lang="en-US" sz="4400" spc="-1" strike="noStrike">
              <a:solidFill>
                <a:srgbClr val="3333cc"/>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district and cost function approaches produce an expenditure number but no information on how the dollars would be used</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judgment and evidence-based approaches provide both an expenditure number and information on how the dollars could be used, or at least how the expenditure number was determ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48B6-CC3D-4D14-9DE9-D8D7678B8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685800" y="22824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uccessful District</a:t>
            </a:r>
            <a:endParaRPr b="0" lang="en-US" sz="4400" spc="-1" strike="noStrike">
              <a:solidFill>
                <a:srgbClr val="3333cc"/>
              </a:solidFill>
              <a:latin typeface="Times New Roman"/>
            </a:endParaRPr>
          </a:p>
        </p:txBody>
      </p:sp>
      <p:sp>
        <p:nvSpPr>
          <p:cNvPr id="666" name="PlaceHolder 2"/>
          <p:cNvSpPr>
            <a:spLocks noGrp="1"/>
          </p:cNvSpPr>
          <p:nvPr>
            <p:ph/>
          </p:nvPr>
        </p:nvSpPr>
        <p:spPr>
          <a:xfrm>
            <a:off x="304560" y="1447560"/>
            <a:ext cx="8305560" cy="480060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se expenditure and achievement data to identify “successful” districts -- districts that produce desired results</a:t>
            </a:r>
            <a:endParaRPr b="0" lang="en-US" sz="21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liminate “unusual” districts from analysis – very high wealth, very large, very small, very high spending, etc.</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rom the reduced universe, find districts that actually produce the performance desired, e.g., have &gt;70% of children scoring at or above proficiency on the state test</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lculate a “weighted average” of the expenditures per pupil for these districts, as well as their average SES characteristics -- % minority, % poverty (usually free and reduced price lunch), % ELL, etc.</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ume that if these districts can meet a state performance benchmark, other districts could too</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se the calculated expenditure as the expenditure in a foundation school finance formula</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djust the calculated expenditure per pupil for the special needs of other districts – small rural, sparse, large urban, etc.</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47D1-7723-4269-8EB5-D55E9EB74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9" name="PlaceHolder 1"/>
          <p:cNvSpPr>
            <a:spLocks noGrp="1"/>
          </p:cNvSpPr>
          <p:nvPr>
            <p:ph type="title"/>
          </p:nvPr>
        </p:nvSpPr>
        <p:spPr>
          <a:xfrm>
            <a:off x="914040" y="304560"/>
            <a:ext cx="7412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uccessful District</a:t>
            </a:r>
            <a:endParaRPr b="0" lang="en-US" sz="4400" spc="-1" strike="noStrike">
              <a:solidFill>
                <a:srgbClr val="3333cc"/>
              </a:solidFill>
              <a:latin typeface="Times New Roman"/>
            </a:endParaRPr>
          </a:p>
        </p:txBody>
      </p:sp>
      <p:sp>
        <p:nvSpPr>
          <p:cNvPr id="670" name="PlaceHolder 2"/>
          <p:cNvSpPr>
            <a:spLocks noGrp="1"/>
          </p:cNvSpPr>
          <p:nvPr>
            <p:ph/>
          </p:nvPr>
        </p:nvSpPr>
        <p:spPr>
          <a:xfrm>
            <a:off x="304560" y="1447560"/>
            <a:ext cx="8305560" cy="4800600"/>
          </a:xfrm>
          <a:prstGeom prst="rect">
            <a:avLst/>
          </a:prstGeom>
          <a:noFill/>
          <a:ln w="0">
            <a:noFill/>
          </a:ln>
        </p:spPr>
        <p:txBody>
          <a:bodyPr anchor="t">
            <a:normAutofit/>
          </a:bodyPr>
          <a:p>
            <a:pPr marL="343080" indent="-343080">
              <a:lnSpc>
                <a:spcPct val="8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vantages: </a:t>
            </a:r>
            <a:endParaRPr b="0" lang="en-US" sz="21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rovides a clear link between a $/PUPIL level and a result level</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latively simple and straightforward – policymakers can understand the metho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raws from actual state districts</a:t>
            </a:r>
            <a:endParaRPr b="0" lang="en-US" sz="1900" spc="-1" strike="noStrike">
              <a:solidFill>
                <a:srgbClr val="000000"/>
              </a:solidFill>
              <a:latin typeface="Times New Roman"/>
            </a:endParaRPr>
          </a:p>
          <a:p>
            <a:pPr marL="343080" indent="-343080">
              <a:lnSpc>
                <a:spcPct val="8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advantages: </a:t>
            </a:r>
            <a:endParaRPr b="0" lang="en-US" sz="21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o many “atypical” districts excluded from analysis</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uccessful districts are usually relatively homogeneous, “urban”/ rural districts</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sults are difficult to “adjust” for larger (&gt;2500 students) urban and poorer rural areas, and thus often are hotly debate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sults can be manipulate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lso does not identify the educational delivery system</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s not now being used by any state – disadvantages have led to too much controversy</a:t>
            </a:r>
            <a:endParaRPr b="0" lang="en-US" sz="1900" spc="-1" strike="noStrike">
              <a:solidFill>
                <a:srgbClr val="000000"/>
              </a:solidFill>
              <a:latin typeface="Times New Roman"/>
            </a:endParaRPr>
          </a:p>
          <a:p>
            <a:pPr lvl="3" marL="16002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35F3-5EE9-4080-B67C-67675F179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3"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st Function</a:t>
            </a:r>
            <a:endParaRPr b="0" lang="en-US" sz="4400" spc="-1" strike="noStrike">
              <a:solidFill>
                <a:srgbClr val="3333cc"/>
              </a:solidFill>
              <a:latin typeface="Times New Roman"/>
            </a:endParaRPr>
          </a:p>
        </p:txBody>
      </p:sp>
      <p:sp>
        <p:nvSpPr>
          <p:cNvPr id="674" name="PlaceHolder 2"/>
          <p:cNvSpPr>
            <a:spLocks noGrp="1"/>
          </p:cNvSpPr>
          <p:nvPr>
            <p:ph/>
          </p:nvPr>
        </p:nvSpPr>
        <p:spPr>
          <a:xfrm>
            <a:off x="304560" y="1371240"/>
            <a:ext cx="8458200" cy="4343400"/>
          </a:xfrm>
          <a:prstGeom prst="rect">
            <a:avLst/>
          </a:prstGeom>
          <a:noFill/>
          <a:ln w="0">
            <a:noFill/>
          </a:ln>
        </p:spPr>
        <p:txBody>
          <a:bodyPr anchor="t">
            <a:normAutofit fontScale="98000"/>
          </a:bodyPr>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approach using regression analysis to identify the cost ($/pupil) to produce an outcome</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t variable:  expenditures per pupil, which can be used as the foundation expenditure</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variables: characteristics of students and districts (% disabled, % ELL, % poverty, size, sparsity, geographic price indices, performance level desired, etc.)</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expenditure varies with performance level</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an overall “cost” adjustment to account for district and student needs</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are simple:  an average expenditure and an overall cost adjus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9109-B07F-4E91-8BE5-74AA63037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Function</a:t>
            </a:r>
            <a:endParaRPr b="0" lang="en-US" sz="4000" spc="-1" strike="noStrike">
              <a:solidFill>
                <a:srgbClr val="3333cc"/>
              </a:solidFill>
              <a:latin typeface="Times New Roman"/>
            </a:endParaRPr>
          </a:p>
        </p:txBody>
      </p:sp>
      <p:sp>
        <p:nvSpPr>
          <p:cNvPr id="678" name="PlaceHolder 2"/>
          <p:cNvSpPr>
            <a:spLocks noGrp="1"/>
          </p:cNvSpPr>
          <p:nvPr>
            <p:ph/>
          </p:nvPr>
        </p:nvSpPr>
        <p:spPr>
          <a:xfrm>
            <a:off x="609480" y="1218960"/>
            <a:ext cx="8229600" cy="4647960"/>
          </a:xfrm>
          <a:prstGeom prst="rect">
            <a:avLst/>
          </a:prstGeom>
          <a:noFill/>
          <a:ln w="0">
            <a:noFill/>
          </a:ln>
        </p:spPr>
        <p:txBody>
          <a:bodyPr anchor="t">
            <a:normAutofit fontScale="97000"/>
          </a:bodyPr>
          <a:p>
            <a:pPr marL="332640" indent="-33264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a:t>
            </a:r>
            <a:endParaRPr b="0" lang="en-US" sz="28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links a cost level to a result level</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phisticated</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for most key factors that impact costs</a:t>
            </a:r>
            <a:endParaRPr b="0" lang="en-US" sz="2400" spc="-1" strike="noStrike">
              <a:solidFill>
                <a:srgbClr val="000000"/>
              </a:solidFill>
              <a:latin typeface="Times New Roman"/>
            </a:endParaRPr>
          </a:p>
          <a:p>
            <a:pPr marL="332640" indent="-33264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a:t>
            </a:r>
            <a:endParaRPr b="0" lang="en-US" sz="28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cated: few policymakers understand or trust the methodology and not used in any state</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cholars question the methodology</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dollar amount but no indication of a delivery strategy</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ssumes no resource reallocation of existing resources</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ge increments for low income/ELL students – 4 +</a:t>
            </a:r>
            <a:endParaRPr b="0" lang="en-US" sz="2400" spc="-1" strike="noStrike">
              <a:solidFill>
                <a:srgbClr val="000000"/>
              </a:solidFill>
              <a:latin typeface="Times New Roman"/>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s the average for Milwauk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DF0E-C16B-4BCA-AE8D-11C65B0F2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1" name="PlaceHolder 1"/>
          <p:cNvSpPr>
            <a:spLocks noGrp="1"/>
          </p:cNvSpPr>
          <p:nvPr>
            <p:ph type="title"/>
          </p:nvPr>
        </p:nvSpPr>
        <p:spPr>
          <a:xfrm>
            <a:off x="228600" y="274680"/>
            <a:ext cx="86868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ext Two Approaches get inside the “Black Box” of Schools</a:t>
            </a:r>
            <a:endParaRPr b="0" lang="en-US" sz="4400" spc="-1" strike="noStrike">
              <a:solidFill>
                <a:srgbClr val="3333cc"/>
              </a:solidFill>
              <a:latin typeface="Times New Roman"/>
            </a:endParaRPr>
          </a:p>
        </p:txBody>
      </p:sp>
      <p:sp>
        <p:nvSpPr>
          <p:cNvPr id="682" name="PlaceHolder 2"/>
          <p:cNvSpPr>
            <a:spLocks noGrp="1"/>
          </p:cNvSpPr>
          <p:nvPr>
            <p:ph/>
          </p:nvPr>
        </p:nvSpPr>
        <p:spPr>
          <a:xfrm>
            <a:off x="380520" y="1600200"/>
            <a:ext cx="8458200" cy="4191120"/>
          </a:xfrm>
          <a:prstGeom prst="rect">
            <a:avLst/>
          </a:prstGeom>
          <a:noFill/>
          <a:ln w="0">
            <a:noFill/>
          </a:ln>
        </p:spPr>
        <p:txBody>
          <a:bodyPr anchor="t">
            <a:normAutofit/>
          </a:bodyPr>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the educational delivery strategies that can produce the desired results</a:t>
            </a:r>
            <a:endParaRPr b="0" lang="en-US" sz="2200" spc="-1" strike="noStrike">
              <a:solidFill>
                <a:srgbClr val="000000"/>
              </a:solidFill>
              <a:latin typeface="Times New Roman"/>
            </a:endParaRPr>
          </a:p>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eans creating detailed specifications of resources needed to support the delivery strategies</a:t>
            </a:r>
            <a:endParaRPr b="0" lang="en-US" sz="2200" spc="-1" strike="noStrike">
              <a:solidFill>
                <a:srgbClr val="000000"/>
              </a:solidFill>
              <a:latin typeface="Times New Roman"/>
            </a:endParaRPr>
          </a:p>
          <a:p>
            <a:pPr lvl="1" marL="743040" indent="-28584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the school level </a:t>
            </a:r>
            <a:endParaRPr b="0" lang="en-US" sz="22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prototypic designs for each of elementary, middle and high schools</a:t>
            </a:r>
            <a:endParaRPr b="0" lang="en-US" sz="1800" spc="-1" strike="noStrike">
              <a:solidFill>
                <a:srgbClr val="000000"/>
              </a:solidFill>
              <a:latin typeface="Times New Roman"/>
            </a:endParaRPr>
          </a:p>
          <a:p>
            <a:pPr lvl="1" marL="743040" indent="-28584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the degree possible, the designs must be supported by research and evidence-based best practices that produce improvements in student learning</a:t>
            </a:r>
            <a:endParaRPr b="0" lang="en-US" sz="2200" spc="-1" strike="noStrike">
              <a:solidFill>
                <a:srgbClr val="000000"/>
              </a:solidFill>
              <a:latin typeface="Times New Roman"/>
            </a:endParaRPr>
          </a:p>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ch more detailed specifications and costing than are included in most general education reform recommend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62E3-39DF-44D2-8F89-7D16F75CF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5" name="PlaceHolder 1"/>
          <p:cNvSpPr>
            <a:spLocks noGrp="1"/>
          </p:cNvSpPr>
          <p:nvPr>
            <p:ph type="title"/>
          </p:nvPr>
        </p:nvSpPr>
        <p:spPr>
          <a:xfrm>
            <a:off x="685800" y="5331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fessional Judgment</a:t>
            </a:r>
            <a:endParaRPr b="0" lang="en-US" sz="4400" spc="-1" strike="noStrike">
              <a:solidFill>
                <a:srgbClr val="3333cc"/>
              </a:solidFill>
              <a:latin typeface="Times New Roman"/>
            </a:endParaRPr>
          </a:p>
        </p:txBody>
      </p:sp>
      <p:sp>
        <p:nvSpPr>
          <p:cNvPr id="686" name="PlaceHolder 2"/>
          <p:cNvSpPr>
            <a:spLocks noGrp="1"/>
          </p:cNvSpPr>
          <p:nvPr>
            <p:ph/>
          </p:nvPr>
        </p:nvSpPr>
        <p:spPr>
          <a:xfrm>
            <a:off x="457200" y="1447920"/>
            <a:ext cx="7848720" cy="4419360"/>
          </a:xfrm>
          <a:prstGeom prst="rect">
            <a:avLst/>
          </a:prstGeom>
          <a:noFill/>
          <a:ln w="0">
            <a:noFill/>
          </a:ln>
        </p:spPr>
        <p:txBody>
          <a:bodyPr anchor="t">
            <a:normAutofit/>
          </a:bodyPr>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ducation professionals make judgments on what is needed at the school level to teach students to proficiency standard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nels of teachers and administrators identify the resource needs for prototypical elementary, middle and high school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te panels review and revise the proposals of various local/regional panel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te panels also create prototypical district desig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CA7C-E997-45B4-BD5A-694E9107A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42" name="PlaceHolder 2"/>
          <p:cNvSpPr>
            <a:spLocks noGrp="1"/>
          </p:cNvSpPr>
          <p:nvPr>
            <p:ph/>
          </p:nvPr>
        </p:nvSpPr>
        <p:spPr>
          <a:xfrm>
            <a:off x="837720" y="1676520"/>
            <a:ext cx="774396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revenues derive largely from local property taxe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property taxes are a result of a property tax rate – %, dollars per hundred, mills – levied against a property tax bas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al property tax base is assessed value of property</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s or yield is the product of the rate times the base – see Chapter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89F2-4DDB-4D95-8D21-E2FE9EE87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9" name="PlaceHolder 1"/>
          <p:cNvSpPr>
            <a:spLocks noGrp="1"/>
          </p:cNvSpPr>
          <p:nvPr>
            <p:ph type="title"/>
          </p:nvPr>
        </p:nvSpPr>
        <p:spPr>
          <a:xfrm>
            <a:off x="901800" y="533160"/>
            <a:ext cx="7269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fessional Judgment</a:t>
            </a:r>
            <a:endParaRPr b="0" lang="en-US" sz="4400" spc="-1" strike="noStrike">
              <a:solidFill>
                <a:srgbClr val="3333cc"/>
              </a:solidFill>
              <a:latin typeface="Times New Roman"/>
            </a:endParaRPr>
          </a:p>
        </p:txBody>
      </p:sp>
      <p:sp>
        <p:nvSpPr>
          <p:cNvPr id="690"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dvantages: </a:t>
            </a:r>
            <a:endParaRPr b="0" lang="en-US" sz="25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aws from the expertise of the best educators in the state, and perhaps from around the country</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posals tailored to the state context</a:t>
            </a:r>
            <a:endParaRPr b="0" lang="en-US" sz="2200" spc="-1" strike="noStrike">
              <a:solidFill>
                <a:srgbClr val="000000"/>
              </a:solidFill>
              <a:latin typeface="Times New Roman"/>
            </a:endParaRPr>
          </a:p>
          <a:p>
            <a:pPr marL="343080" indent="-3430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advantages: </a:t>
            </a:r>
            <a:endParaRPr b="0" lang="en-US" sz="25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flects just professional judgments, no clear link to student learning gains</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ing somewhat “co-opted” as the word gets out, meaning many proposals are too generous</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too many professional judgment panels unable to identify “evidence” or “research” that supports their proposals, which often reflect personal belief or personal philosoph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5E3B-BF50-4F94-9F6F-1B3A5062FC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3" name="PlaceHolder 1"/>
          <p:cNvSpPr>
            <a:spLocks noGrp="1"/>
          </p:cNvSpPr>
          <p:nvPr>
            <p:ph type="title"/>
          </p:nvPr>
        </p:nvSpPr>
        <p:spPr>
          <a:xfrm>
            <a:off x="380520" y="38088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idence-Based Model</a:t>
            </a:r>
            <a:endParaRPr b="0" lang="en-US" sz="4400" spc="-1" strike="noStrike">
              <a:solidFill>
                <a:srgbClr val="3333cc"/>
              </a:solidFill>
              <a:latin typeface="Times New Roman"/>
            </a:endParaRPr>
          </a:p>
        </p:txBody>
      </p:sp>
      <p:sp>
        <p:nvSpPr>
          <p:cNvPr id="694" name="PlaceHolder 2"/>
          <p:cNvSpPr>
            <a:spLocks noGrp="1"/>
          </p:cNvSpPr>
          <p:nvPr>
            <p:ph/>
          </p:nvPr>
        </p:nvSpPr>
        <p:spPr>
          <a:xfrm>
            <a:off x="533520" y="1371600"/>
            <a:ext cx="8153280" cy="4572000"/>
          </a:xfrm>
          <a:prstGeom prst="rect">
            <a:avLst/>
          </a:prstGeom>
          <a:noFill/>
          <a:ln w="0">
            <a:noFill/>
          </a:ln>
        </p:spPr>
        <p:txBody>
          <a:bodyPr anchor="t">
            <a:normAutofit/>
          </a:bodyPr>
          <a:p>
            <a:pPr marL="343080" indent="-343080">
              <a:lnSpc>
                <a:spcPct val="9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ws from research and evidence-based best practices to identify those educational delivery strategies and their resource needs that are linked to student learning gains</a:t>
            </a:r>
            <a:endParaRPr b="0" lang="en-US" sz="20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tempts to “back” each resource recommendation with reference to research and/or best practic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Given the development of several comprehensive school reforms, can draw from those designs, which themselves often are based on compilations of research-supported practic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n also draw from a synthesis of the best professional judgment panel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n “speed up” and therefore reduce the cost of conducting an adequacy study</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en-US" sz="2100" spc="-1" strike="noStrike">
                <a:solidFill>
                  <a:srgbClr val="000000"/>
                </a:solidFill>
                <a:latin typeface="Times New Roman"/>
              </a:rPr>
              <a:t>Squares” with the evidence-based practice required by No Child Left Behin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F5F4-F193-4A69-A40D-491CCFE93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380520" y="763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idence-Based Model</a:t>
            </a:r>
            <a:endParaRPr b="0" lang="en-US" sz="4400" spc="-1" strike="noStrike">
              <a:solidFill>
                <a:srgbClr val="3333cc"/>
              </a:solidFill>
              <a:latin typeface="Times New Roman"/>
            </a:endParaRPr>
          </a:p>
        </p:txBody>
      </p:sp>
      <p:sp>
        <p:nvSpPr>
          <p:cNvPr id="698" name="PlaceHolder 2"/>
          <p:cNvSpPr>
            <a:spLocks noGrp="1"/>
          </p:cNvSpPr>
          <p:nvPr>
            <p:ph/>
          </p:nvPr>
        </p:nvSpPr>
        <p:spPr>
          <a:xfrm>
            <a:off x="533520" y="1219320"/>
            <a:ext cx="8153280" cy="487656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vantages: </a:t>
            </a:r>
            <a:endParaRPr b="0" lang="en-US" sz="21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s a detailed staffing for prototypic schools to address all key educational issues, with all proposals having a research and/or best practices bas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s from previous research and adequacy studies already conducted around the country – each element has an “evidence” rational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oids educator predilection to make proposals on individual philosophy rather than engage in “evidence-based” practic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simonious but robust – a “Ford” – not a “Cadillac” – not a “Yugo”</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ly, additional costs are less than other approaches</a:t>
            </a:r>
            <a:endParaRPr b="0" lang="en-US" sz="18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advantages: </a:t>
            </a:r>
            <a:endParaRPr b="0" lang="en-US" sz="21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ll school elements have a research base, or a strong research bas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not “stand alone”: needs a state panel of leading educators and policymakers to review and tailor to any particular state context</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d to link all recommendations combined  to a specific performanc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rg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FE0A-6526-4937-B308-02D0D0A97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1" name="PlaceHolder 1"/>
          <p:cNvSpPr>
            <a:spLocks noGrp="1"/>
          </p:cNvSpPr>
          <p:nvPr>
            <p:ph type="title"/>
          </p:nvPr>
        </p:nvSpPr>
        <p:spPr>
          <a:xfrm>
            <a:off x="151920" y="274320"/>
            <a:ext cx="89154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utcome of Latter Two Approaches</a:t>
            </a:r>
            <a:endParaRPr b="0" lang="en-US" sz="4000" spc="-1" strike="noStrike">
              <a:solidFill>
                <a:srgbClr val="3333cc"/>
              </a:solidFill>
              <a:latin typeface="Times New Roman"/>
            </a:endParaRPr>
          </a:p>
        </p:txBody>
      </p:sp>
      <p:sp>
        <p:nvSpPr>
          <p:cNvPr id="702" name="PlaceHolder 2"/>
          <p:cNvSpPr>
            <a:spLocks noGrp="1"/>
          </p:cNvSpPr>
          <p:nvPr>
            <p:ph/>
          </p:nvPr>
        </p:nvSpPr>
        <p:spPr>
          <a:xfrm>
            <a:off x="761760" y="1447920"/>
            <a:ext cx="7848360" cy="441936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typical school designs &amp; staffing needs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ar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 or Intermediate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chool</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d cost per pupil of each prototype </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of the student, district and price adjustments needed</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resources adequate to enable schools/districts to determine most powerful educational strateg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6CB6-5526-4FAB-B0DC-4E8243CBC5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5"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ponents of Prototypical Elementary, Middle, and High Schools</a:t>
            </a:r>
            <a:endParaRPr b="0" lang="en-US" sz="4000" spc="-1" strike="noStrike">
              <a:solidFill>
                <a:srgbClr val="3333cc"/>
              </a:solidFill>
              <a:latin typeface="Times New Roman"/>
            </a:endParaRPr>
          </a:p>
        </p:txBody>
      </p:sp>
      <p:sp>
        <p:nvSpPr>
          <p:cNvPr id="706" name="PlaceHolder 2"/>
          <p:cNvSpPr>
            <a:spLocks noGrp="1"/>
          </p:cNvSpPr>
          <p:nvPr>
            <p:ph/>
          </p:nvPr>
        </p:nvSpPr>
        <p:spPr>
          <a:xfrm>
            <a:off x="1117080" y="1980720"/>
            <a:ext cx="7340760" cy="4087800"/>
          </a:xfrm>
          <a:prstGeom prst="rect">
            <a:avLst/>
          </a:prstGeom>
          <a:noFill/>
          <a:ln w="0">
            <a:noFill/>
          </a:ln>
        </p:spPr>
        <p:txBody>
          <a:bodyPr anchor="t">
            <a:normAutofit fontScale="96000"/>
          </a:bodyPr>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size</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on</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instruction – class size</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st instruction/planning &amp; prep</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materials, textbooks, library books</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for struggling students – disabled, low income, ESL, GATE – such resources will vary by incidence of such students in each school – tutoring, ELL, extended day, summer school</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development </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394D-71A3-467B-8FD3-51DC22912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Key School Components …</a:t>
            </a:r>
            <a:endParaRPr b="0" lang="en-US" sz="4000" spc="-1" strike="noStrike">
              <a:solidFill>
                <a:srgbClr val="3333cc"/>
              </a:solidFill>
              <a:latin typeface="Times New Roman"/>
            </a:endParaRPr>
          </a:p>
        </p:txBody>
      </p:sp>
      <p:sp>
        <p:nvSpPr>
          <p:cNvPr id="710" name="PlaceHolder 2"/>
          <p:cNvSpPr>
            <a:spLocks noGrp="1"/>
          </p:cNvSpPr>
          <p:nvPr>
            <p:ph/>
          </p:nvPr>
        </p:nvSpPr>
        <p:spPr>
          <a:xfrm>
            <a:off x="457200" y="1494000"/>
            <a:ext cx="8229600" cy="452592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echnology – school computers &amp; software including upgrading and maintenance cost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udent activiti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cretarial</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perations and maintenance</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od services</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LU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trict design</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eschool</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ew Performance Pay Structure and salary level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justments for all prototypic designs for schools with more and fewer students, and with greater and lesser poverty, so each design is tailored to size and demographics of each school</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A725-D4FE-44F8-83A0-6CA0C840BB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609480" y="6091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46" name="PlaceHolder 2"/>
          <p:cNvSpPr>
            <a:spLocks noGrp="1"/>
          </p:cNvSpPr>
          <p:nvPr>
            <p:ph/>
          </p:nvPr>
        </p:nvSpPr>
        <p:spPr>
          <a:xfrm>
            <a:off x="762120" y="1676520"/>
            <a:ext cx="774360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assessed value is only a percent of market value – in Wisconsin, it is supposed to be market valu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local assessments vary in their ability to identify the precise value, states often adjust local evaluations to a common base, using assessment-sales ratio studies, and use the “equalized” valuation in the school aid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CB99-7C25-47D0-8FD3-4650AF15C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s are identified as from local, state, federal or other sources, and whether for general purposes or restricted or “categorical” purposes, such as aid for disabled students, transportation, the federal Title I program for students coming from families with low income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4FF1-FAAC-488E-900E-7798CDE51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Expenditures</a:t>
            </a:r>
            <a:endParaRPr b="0" lang="en-US" sz="4400" spc="-1" strike="noStrike">
              <a:solidFill>
                <a:srgbClr val="3333cc"/>
              </a:solidFill>
              <a:latin typeface="Times New Roman"/>
            </a:endParaRPr>
          </a:p>
        </p:txBody>
      </p:sp>
      <p:sp>
        <p:nvSpPr>
          <p:cNvPr id="554" name="PlaceHolder 2"/>
          <p:cNvSpPr>
            <a:spLocks noGrp="1"/>
          </p:cNvSpPr>
          <p:nvPr>
            <p:ph/>
          </p:nvPr>
        </p:nvSpPr>
        <p:spPr>
          <a:xfrm>
            <a:off x="457200" y="1371600"/>
            <a:ext cx="7772400" cy="51055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ditures are divided into total, which includes capital, and operating, which excludes capital (buildings, buses, computer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ducational” expenditures are generally instruction, instructional support, and administration, and exclude transportation, operations and maintenance, food,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94F2-6657-443B-A8F0-DFAE7E8C0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7" name="PlaceHolder 1"/>
          <p:cNvSpPr>
            <a:spLocks noGrp="1"/>
          </p:cNvSpPr>
          <p:nvPr>
            <p:ph type="title"/>
          </p:nvPr>
        </p:nvSpPr>
        <p:spPr>
          <a:xfrm>
            <a:off x="533160" y="609480"/>
            <a:ext cx="79246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Expenditures</a:t>
            </a:r>
            <a:endParaRPr b="0" lang="en-US" sz="4400" spc="-1" strike="noStrike">
              <a:solidFill>
                <a:srgbClr val="3333cc"/>
              </a:solidFill>
              <a:latin typeface="Times New Roman"/>
            </a:endParaRPr>
          </a:p>
        </p:txBody>
      </p:sp>
      <p:sp>
        <p:nvSpPr>
          <p:cNvPr id="558" name="PlaceHolder 2"/>
          <p:cNvSpPr>
            <a:spLocks noGrp="1"/>
          </p:cNvSpPr>
          <p:nvPr>
            <p:ph/>
          </p:nvPr>
        </p:nvSpPr>
        <p:spPr>
          <a:xfrm>
            <a:off x="533520" y="1447920"/>
            <a:ext cx="7743600" cy="487656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operating expenditures are reported by:</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salaries, benefits, etc.</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instruction, instructional support, administration, operation and maintenance, transportation, food, debt service, etc.</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 regular education, special ed, bilingual ed, comp ed, gifted &amp; talented, instructional support (which could have a professional development program), central admin, site admin, transportation, operations and maintenance, et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9F9A-C88A-4071-9484-5814A5611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Public School Expenditures</a:t>
            </a:r>
            <a:endParaRPr b="0" lang="en-US" sz="4800" spc="-1" strike="noStrike">
              <a:solidFill>
                <a:srgbClr val="3333cc"/>
              </a:solidFill>
              <a:latin typeface="Times New Roman"/>
            </a:endParaRPr>
          </a:p>
        </p:txBody>
      </p:sp>
      <p:sp>
        <p:nvSpPr>
          <p:cNvPr id="5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ning to report expenditures by numbers, types and deployment of professionals – core academic teachers, instructional facilitators/mentors, non-core teachers (art, music, pe, library), tutors, resource room teachers, inclusion teachers, counselors, instructional aides – and how deploy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EURY</cp:lastModifiedBy>
  <cp:lastPrinted>1998-11-17T16:53:48Z</cp:lastPrinted>
  <dcterms:modified xsi:type="dcterms:W3CDTF">2009-06-01T16:21:58Z</dcterms:modified>
  <cp:revision>51</cp:revision>
  <dc:subject/>
  <dc:title>No Slide Title</dc:title>
</cp:coreProperties>
</file>